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35.wmf" ContentType="image/x-wmf"/>
  <Override PartName="/ppt/media/image141.wmf" ContentType="image/x-wmf"/>
  <Override PartName="/ppt/media/image5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4.wmf" ContentType="image/x-wmf"/>
  <Override PartName="/ppt/media/image58.wmf" ContentType="image/x-wmf"/>
  <Override PartName="/ppt/media/image143.wmf" ContentType="image/x-wmf"/>
  <Override PartName="/ppt/media/image57.wmf" ContentType="image/x-wmf"/>
  <Override PartName="/ppt/media/image142.wmf" ContentType="image/x-wmf"/>
  <Override PartName="/ppt/media/image5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82.wmf" ContentType="image/x-wmf"/>
  <Override PartName="/ppt/media/image14.wmf" ContentType="image/x-wmf"/>
  <Override PartName="/ppt/media/image2.wmf" ContentType="image/x-wmf"/>
  <Override PartName="/ppt/media/image20.png" ContentType="image/png"/>
  <Override PartName="/ppt/media/image8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C4C-CB4E-4335-A53B-AB93E050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168-B6F6-4770-8D75-2BCC73A4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A6C-8D7C-473F-96C4-41A47128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BD0-1AB2-457F-972D-8B98DA18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007-E7E5-4225-8F2F-0BC7FCEF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354-11DE-4CA3-9431-E7ADD042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DD8-2510-4E66-A8D9-CD21FB2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A78-63A3-4BB6-91A3-FFC02B2F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BA9-0EA7-4C9F-A38B-EAE7922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C8C-605A-480A-812E-69F82B7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35D-7C73-425E-8BF5-118CBBF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2F9-2283-4C26-9B68-0D8AB70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D7EB-C84E-4729-893B-50F20E8498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5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ФУНКЦИЯ.</a:t>
            </a:r>
            <a:br>
              <a:rPr sz="4100"/>
            </a:b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 ПРЕДЕЛ  ФУНКЦИИ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и 2;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1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Определение предела не требует существования функции в самой точке         . Т.е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стремится  к         ,  но не достигает значения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2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Если при стремлении          к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еременная        принимает лишь значения мень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, или, наоборот,  лишь значения, большие      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и этом функция                   стремится к некотор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чис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, то говорят об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односторонних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еде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функции                   соответственно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с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и справ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Объект 3"/>
          <p:cNvGraphicFramePr/>
          <p:nvPr/>
        </p:nvGraphicFramePr>
        <p:xfrm>
          <a:off x="6012000" y="105264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0526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Объект 4"/>
              <p:cNvSpPr txBox="1"/>
              <p:nvPr/>
            </p:nvSpPr>
            <p:spPr>
              <a:xfrm>
                <a:off x="7380360" y="1052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67" name="Объект 5"/>
          <p:cNvGraphicFramePr/>
          <p:nvPr/>
        </p:nvGraphicFramePr>
        <p:xfrm>
          <a:off x="2556000" y="1557360"/>
          <a:ext cx="36036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557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6"/>
          <p:cNvGraphicFramePr/>
          <p:nvPr/>
        </p:nvGraphicFramePr>
        <p:xfrm>
          <a:off x="6588000" y="1628640"/>
          <a:ext cx="2937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628640"/>
                    <a:ext cx="2937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9"/>
          <p:cNvGraphicFramePr/>
          <p:nvPr/>
        </p:nvGraphicFramePr>
        <p:xfrm>
          <a:off x="5724360" y="1916280"/>
          <a:ext cx="3924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392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1"/>
          <p:cNvGraphicFramePr/>
          <p:nvPr/>
        </p:nvGraphicFramePr>
        <p:xfrm>
          <a:off x="2627280" y="2349360"/>
          <a:ext cx="3920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349360"/>
                    <a:ext cx="39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Объект 14"/>
              <p:cNvSpPr txBox="1"/>
              <p:nvPr/>
            </p:nvSpPr>
            <p:spPr>
              <a:xfrm>
                <a:off x="3276720" y="3284640"/>
                <a:ext cx="12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Объект 15"/>
              <p:cNvSpPr txBox="1"/>
              <p:nvPr/>
            </p:nvSpPr>
            <p:spPr>
              <a:xfrm>
                <a:off x="2124000" y="4149720"/>
                <a:ext cx="107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Объект 16"/>
          <p:cNvGraphicFramePr/>
          <p:nvPr/>
        </p:nvGraphicFramePr>
        <p:xfrm>
          <a:off x="2830680" y="4653000"/>
          <a:ext cx="2111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30680" y="4653000"/>
                    <a:ext cx="2111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Объект 17"/>
          <p:cNvGraphicFramePr/>
          <p:nvPr/>
        </p:nvGraphicFramePr>
        <p:xfrm>
          <a:off x="2973240" y="5589720"/>
          <a:ext cx="2170440" cy="67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5589720"/>
                    <a:ext cx="2170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Объект 18"/>
          <p:cNvGraphicFramePr/>
          <p:nvPr/>
        </p:nvGraphicFramePr>
        <p:xfrm>
          <a:off x="6659640" y="1916280"/>
          <a:ext cx="35856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191628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Объект 19"/>
              <p:cNvSpPr txBox="1"/>
              <p:nvPr/>
            </p:nvSpPr>
            <p:spPr>
              <a:xfrm>
                <a:off x="6732720" y="2852640"/>
                <a:ext cx="358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Объект 20"/>
          <p:cNvGraphicFramePr/>
          <p:nvPr/>
        </p:nvGraphicFramePr>
        <p:xfrm>
          <a:off x="826920" y="2852640"/>
          <a:ext cx="35892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28526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дносторонние преде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341360"/>
            <a:ext cx="85104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3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левым  (правым</a:t>
            </a:r>
            <a:r>
              <a:rPr b="0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)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 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(или 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),  если  для любого сколь угодно мал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довлетворяющих услови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348000" y="1700280"/>
          <a:ext cx="10796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0796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7380360" y="177336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77336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8"/>
          <p:cNvGraphicFramePr/>
          <p:nvPr/>
        </p:nvGraphicFramePr>
        <p:xfrm>
          <a:off x="1692360" y="2421000"/>
          <a:ext cx="34740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421000"/>
                    <a:ext cx="347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8462880" y="2349360"/>
          <a:ext cx="35712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2880" y="2349360"/>
                    <a:ext cx="35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6095880" y="2781360"/>
          <a:ext cx="10432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781360"/>
                    <a:ext cx="1043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5019840" y="3063960"/>
          <a:ext cx="20001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3063960"/>
                    <a:ext cx="2000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"/>
          <p:cNvGraphicFramePr/>
          <p:nvPr/>
        </p:nvGraphicFramePr>
        <p:xfrm>
          <a:off x="2484360" y="3429000"/>
          <a:ext cx="1511280" cy="34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342900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8"/>
          <p:cNvGraphicFramePr/>
          <p:nvPr/>
        </p:nvGraphicFramePr>
        <p:xfrm>
          <a:off x="3635280" y="3860640"/>
          <a:ext cx="1873440" cy="58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1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3860640"/>
                    <a:ext cx="1873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0"/>
          <p:cNvGraphicFramePr/>
          <p:nvPr/>
        </p:nvGraphicFramePr>
        <p:xfrm>
          <a:off x="900000" y="5184720"/>
          <a:ext cx="393228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184720"/>
                    <a:ext cx="3932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22"/>
          <p:cNvSpPr/>
          <p:nvPr/>
        </p:nvSpPr>
        <p:spPr>
          <a:xfrm>
            <a:off x="5483880" y="51836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авого предел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23"/>
          <p:cNvGraphicFramePr/>
          <p:nvPr/>
        </p:nvGraphicFramePr>
        <p:xfrm>
          <a:off x="925560" y="5877000"/>
          <a:ext cx="4006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5560" y="5877000"/>
                    <a:ext cx="4006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5"/>
          <p:cNvSpPr/>
          <p:nvPr/>
        </p:nvSpPr>
        <p:spPr>
          <a:xfrm>
            <a:off x="5433840" y="587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левого преде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2028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4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 точке   </a:t>
            </a:r>
            <a:r>
              <a:rPr b="0" i="1" lang="en-US" sz="32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86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для люб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ь отвечающее ему положитель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е, что для всех значений аргумента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спользуют символи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6588000" y="620640"/>
          <a:ext cx="122580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620640"/>
                    <a:ext cx="12258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4932360" y="1052640"/>
          <a:ext cx="25923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2592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8"/>
          <p:cNvGraphicFramePr/>
          <p:nvPr/>
        </p:nvGraphicFramePr>
        <p:xfrm>
          <a:off x="8028000" y="1916280"/>
          <a:ext cx="3398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916280"/>
                    <a:ext cx="339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0"/>
          <p:cNvGraphicFramePr/>
          <p:nvPr/>
        </p:nvGraphicFramePr>
        <p:xfrm>
          <a:off x="6732720" y="2284560"/>
          <a:ext cx="151128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2284560"/>
                    <a:ext cx="1511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5148360" y="2768760"/>
          <a:ext cx="18716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2768760"/>
                    <a:ext cx="1871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4"/>
          <p:cNvGraphicFramePr/>
          <p:nvPr/>
        </p:nvGraphicFramePr>
        <p:xfrm>
          <a:off x="1620720" y="3500280"/>
          <a:ext cx="5902560" cy="60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0720" y="3500280"/>
                    <a:ext cx="590256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690480" y="4653000"/>
          <a:ext cx="776304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4653000"/>
                    <a:ext cx="7763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964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Определение </a:t>
            </a:r>
            <a:r>
              <a:rPr b="1" lang="ru-RU" sz="3200" spc="-1" strike="noStrike">
                <a:solidFill>
                  <a:srgbClr val="070618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Теорема 1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Если функция                имеет при                            предел, равный </a:t>
            </a:r>
            <a:r>
              <a:rPr b="0" i="1" lang="en-US" sz="2800" spc="-1" strike="noStrike">
                <a:solidFill>
                  <a:srgbClr val="070618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о ее можно представить в виде суммы этого числа </a:t>
            </a:r>
            <a:r>
              <a:rPr b="1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ы 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Объект 3"/>
          <p:cNvGraphicFramePr/>
          <p:nvPr/>
        </p:nvGraphicFramePr>
        <p:xfrm>
          <a:off x="4932360" y="1916280"/>
          <a:ext cx="6476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16280"/>
                    <a:ext cx="647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4"/>
          <p:cNvGraphicFramePr/>
          <p:nvPr/>
        </p:nvGraphicFramePr>
        <p:xfrm>
          <a:off x="6300720" y="242100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Объект 5"/>
          <p:cNvGraphicFramePr/>
          <p:nvPr/>
        </p:nvGraphicFramePr>
        <p:xfrm>
          <a:off x="4211640" y="2924280"/>
          <a:ext cx="18543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24280"/>
                    <a:ext cx="1854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Объект 6"/>
          <p:cNvGraphicFramePr/>
          <p:nvPr/>
        </p:nvGraphicFramePr>
        <p:xfrm>
          <a:off x="4932360" y="3751200"/>
          <a:ext cx="122400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51200"/>
                    <a:ext cx="1224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Объект 7"/>
          <p:cNvGraphicFramePr/>
          <p:nvPr/>
        </p:nvGraphicFramePr>
        <p:xfrm>
          <a:off x="4356000" y="5157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5157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Объект 8"/>
          <p:cNvGraphicFramePr/>
          <p:nvPr/>
        </p:nvGraphicFramePr>
        <p:xfrm>
          <a:off x="7020000" y="292428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0000" y="292428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Объект 9"/>
          <p:cNvGraphicFramePr/>
          <p:nvPr/>
        </p:nvGraphicFramePr>
        <p:xfrm>
          <a:off x="5651640" y="5013360"/>
          <a:ext cx="126504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5013360"/>
                    <a:ext cx="12650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Объект 10"/>
          <p:cNvGraphicFramePr/>
          <p:nvPr/>
        </p:nvGraphicFramePr>
        <p:xfrm>
          <a:off x="7812000" y="393372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12000" y="3933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Объект 11"/>
          <p:cNvGraphicFramePr/>
          <p:nvPr/>
        </p:nvGraphicFramePr>
        <p:xfrm>
          <a:off x="3851280" y="5589720"/>
          <a:ext cx="230328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1280" y="5589720"/>
                    <a:ext cx="2303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1"/>
          <p:cNvGraphicFramePr/>
          <p:nvPr/>
        </p:nvGraphicFramePr>
        <p:xfrm>
          <a:off x="2627280" y="508464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27280" y="508464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ю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представить как сумму числа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ой величины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число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пре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й функции при                         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Объект 3"/>
          <p:cNvGraphicFramePr/>
          <p:nvPr/>
        </p:nvGraphicFramePr>
        <p:xfrm>
          <a:off x="5651640" y="549360"/>
          <a:ext cx="1376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49360"/>
                    <a:ext cx="1376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Объект 4"/>
          <p:cNvGraphicFramePr/>
          <p:nvPr/>
        </p:nvGraphicFramePr>
        <p:xfrm>
          <a:off x="5292720" y="1557360"/>
          <a:ext cx="8143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55736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Объект 5"/>
          <p:cNvGraphicFramePr/>
          <p:nvPr/>
        </p:nvGraphicFramePr>
        <p:xfrm>
          <a:off x="684360" y="2233440"/>
          <a:ext cx="79200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233440"/>
                    <a:ext cx="792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6"/>
          <p:cNvGraphicFramePr/>
          <p:nvPr/>
        </p:nvGraphicFramePr>
        <p:xfrm>
          <a:off x="1547640" y="2133720"/>
          <a:ext cx="107964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133720"/>
                    <a:ext cx="1079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7"/>
          <p:cNvGraphicFramePr/>
          <p:nvPr/>
        </p:nvGraphicFramePr>
        <p:xfrm>
          <a:off x="3564000" y="270828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70828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8"/>
          <p:cNvGraphicFramePr/>
          <p:nvPr/>
        </p:nvGraphicFramePr>
        <p:xfrm>
          <a:off x="4572000" y="2637000"/>
          <a:ext cx="1144440" cy="43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637000"/>
                    <a:ext cx="1144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Объект 9"/>
          <p:cNvGraphicFramePr/>
          <p:nvPr/>
        </p:nvGraphicFramePr>
        <p:xfrm>
          <a:off x="3179880" y="3559320"/>
          <a:ext cx="219060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79880" y="3559320"/>
                    <a:ext cx="21906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бесконечно малых велич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лгебраическая сумма конечного числа бесконечно малых величин есть величина бесконечная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оизведение бесконечно малой величины на ограниченную функцию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Частное от деления бесконечно малой величины на функцию, предел которого отличен от нуля,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 ПРЕ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вы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торо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1332000" y="2031840"/>
          <a:ext cx="590544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31840"/>
                    <a:ext cx="590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6"/>
          <p:cNvGraphicFramePr/>
          <p:nvPr/>
        </p:nvGraphicFramePr>
        <p:xfrm>
          <a:off x="3139920" y="2763720"/>
          <a:ext cx="1863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9920" y="2763720"/>
                    <a:ext cx="1863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0"/>
          <p:cNvGraphicFramePr/>
          <p:nvPr/>
        </p:nvGraphicFramePr>
        <p:xfrm>
          <a:off x="4932360" y="3463920"/>
          <a:ext cx="23511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463920"/>
                    <a:ext cx="235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2"/>
          <p:cNvSpPr/>
          <p:nvPr/>
        </p:nvSpPr>
        <p:spPr>
          <a:xfrm>
            <a:off x="4138560" y="37882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3"/>
          <p:cNvGraphicFramePr/>
          <p:nvPr/>
        </p:nvGraphicFramePr>
        <p:xfrm>
          <a:off x="1403280" y="4782960"/>
          <a:ext cx="2160720" cy="103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782960"/>
                    <a:ext cx="216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6"/>
          <p:cNvSpPr/>
          <p:nvPr/>
        </p:nvSpPr>
        <p:spPr>
          <a:xfrm>
            <a:off x="3615840" y="5121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5"/>
          <p:cNvGraphicFramePr/>
          <p:nvPr/>
        </p:nvGraphicFramePr>
        <p:xfrm>
          <a:off x="4481640" y="5060880"/>
          <a:ext cx="205416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1640" y="5060880"/>
                    <a:ext cx="2054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17"/>
          <p:cNvSpPr/>
          <p:nvPr/>
        </p:nvSpPr>
        <p:spPr>
          <a:xfrm>
            <a:off x="6443640" y="5083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19"/>
          <p:cNvGraphicFramePr/>
          <p:nvPr/>
        </p:nvGraphicFramePr>
        <p:xfrm>
          <a:off x="1496880" y="5762520"/>
          <a:ext cx="412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6880" y="5762520"/>
                    <a:ext cx="412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20"/>
          <p:cNvSpPr/>
          <p:nvPr/>
        </p:nvSpPr>
        <p:spPr>
          <a:xfrm>
            <a:off x="518400" y="57330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1652760" y="573300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е натурального логарифма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3524400" y="37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1908000" y="3716280"/>
                <a:ext cx="1936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Low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уществуют конечные предел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справедливы следующие равен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2268360" y="549360"/>
          <a:ext cx="20131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49360"/>
                    <a:ext cx="2013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7"/>
          <p:cNvSpPr/>
          <p:nvPr/>
        </p:nvSpPr>
        <p:spPr>
          <a:xfrm>
            <a:off x="4416120" y="548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5292720" y="404640"/>
          <a:ext cx="33354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04640"/>
                    <a:ext cx="333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"/>
          <p:cNvGraphicFramePr/>
          <p:nvPr/>
        </p:nvGraphicFramePr>
        <p:xfrm>
          <a:off x="1433520" y="1557360"/>
          <a:ext cx="2048040" cy="6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3520" y="1557360"/>
                    <a:ext cx="2048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8"/>
          <p:cNvGraphicFramePr/>
          <p:nvPr/>
        </p:nvGraphicFramePr>
        <p:xfrm>
          <a:off x="3992400" y="1557360"/>
          <a:ext cx="198288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2400" y="1557360"/>
                    <a:ext cx="1982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0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2"/>
          <p:cNvGraphicFramePr/>
          <p:nvPr/>
        </p:nvGraphicFramePr>
        <p:xfrm>
          <a:off x="1476360" y="2852640"/>
          <a:ext cx="637380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6373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4"/>
          <p:cNvGraphicFramePr/>
          <p:nvPr/>
        </p:nvGraphicFramePr>
        <p:xfrm>
          <a:off x="1517760" y="3789360"/>
          <a:ext cx="386712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7760" y="3789360"/>
                    <a:ext cx="3867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7"/>
          <p:cNvSpPr/>
          <p:nvPr/>
        </p:nvSpPr>
        <p:spPr>
          <a:xfrm>
            <a:off x="5501880" y="3788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6"/>
          <p:cNvGraphicFramePr/>
          <p:nvPr/>
        </p:nvGraphicFramePr>
        <p:xfrm>
          <a:off x="6788160" y="3789360"/>
          <a:ext cx="14558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8160" y="3789360"/>
                    <a:ext cx="1455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8"/>
          <p:cNvGraphicFramePr/>
          <p:nvPr/>
        </p:nvGraphicFramePr>
        <p:xfrm>
          <a:off x="1619280" y="4724280"/>
          <a:ext cx="616104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724280"/>
                    <a:ext cx="6161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052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525680" y="907920"/>
          <a:ext cx="6092640" cy="11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07920"/>
                    <a:ext cx="6092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1733400" y="2286000"/>
          <a:ext cx="59738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286000"/>
                    <a:ext cx="5973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197000"/>
            <a:ext cx="80024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под знаком предела получают определе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 оно и будет значением преде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н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под знаком  предела  получ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Если при замене        на      под знаком  предела  получаю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3348000" y="1197000"/>
          <a:ext cx="5763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197000"/>
                    <a:ext cx="5763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"/>
          <p:cNvGraphicFramePr/>
          <p:nvPr/>
        </p:nvGraphicFramePr>
        <p:xfrm>
          <a:off x="4278240" y="1197000"/>
          <a:ext cx="64764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197000"/>
                    <a:ext cx="647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4140360" y="1989000"/>
          <a:ext cx="2427120" cy="6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89000"/>
                    <a:ext cx="24271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2"/>
          <p:cNvGraphicFramePr/>
          <p:nvPr/>
        </p:nvGraphicFramePr>
        <p:xfrm>
          <a:off x="3463920" y="2843280"/>
          <a:ext cx="57636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3920" y="2843280"/>
                    <a:ext cx="576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4"/>
          <p:cNvGraphicFramePr/>
          <p:nvPr/>
        </p:nvGraphicFramePr>
        <p:xfrm>
          <a:off x="4427640" y="2857680"/>
          <a:ext cx="57600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2857680"/>
                    <a:ext cx="5760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6"/>
          <p:cNvGraphicFramePr/>
          <p:nvPr/>
        </p:nvGraphicFramePr>
        <p:xfrm>
          <a:off x="2577960" y="3489480"/>
          <a:ext cx="5786640" cy="81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3489480"/>
                    <a:ext cx="5786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0"/>
          <p:cNvSpPr/>
          <p:nvPr/>
        </p:nvSpPr>
        <p:spPr>
          <a:xfrm>
            <a:off x="813960" y="43390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о, то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21"/>
          <p:cNvGraphicFramePr/>
          <p:nvPr/>
        </p:nvGraphicFramePr>
        <p:xfrm>
          <a:off x="3645000" y="4264200"/>
          <a:ext cx="24289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5000" y="4264200"/>
                    <a:ext cx="2428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23"/>
          <p:cNvGraphicFramePr/>
          <p:nvPr/>
        </p:nvGraphicFramePr>
        <p:xfrm>
          <a:off x="3132000" y="4807080"/>
          <a:ext cx="50328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3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807080"/>
                    <a:ext cx="503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25"/>
          <p:cNvGraphicFramePr/>
          <p:nvPr/>
        </p:nvGraphicFramePr>
        <p:xfrm>
          <a:off x="3833640" y="4797360"/>
          <a:ext cx="50508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6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33640" y="4797360"/>
                    <a:ext cx="505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27"/>
          <p:cNvGraphicFramePr/>
          <p:nvPr/>
        </p:nvGraphicFramePr>
        <p:xfrm>
          <a:off x="1724040" y="5373720"/>
          <a:ext cx="5986440" cy="86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24040" y="5373720"/>
                    <a:ext cx="5986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29"/>
          <p:cNvSpPr/>
          <p:nvPr/>
        </p:nvSpPr>
        <p:spPr>
          <a:xfrm>
            <a:off x="1043640" y="630792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 говорят, что под знаком предела </a:t>
            </a:r>
            <a:r>
              <a:rPr b="0" i="1" lang="ru-RU" sz="1800" spc="-1" strike="noStrike" u="sng">
                <a:solidFill>
                  <a:srgbClr val="ff8600"/>
                </a:solidFill>
                <a:uFillTx/>
                <a:latin typeface="Arial"/>
                <a:ea typeface="Arial"/>
              </a:rPr>
              <a:t>не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дносторонние преде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ные свойства  пре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й и второй замечательные                пред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ки разрыва функции и их классифик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1628640"/>
            <a:ext cx="86421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ком случае задача вычисления пре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дится к </a:t>
            </a:r>
            <a:r>
              <a:rPr b="1" i="1" lang="ru-RU" sz="2400" spc="-1" strike="noStrike">
                <a:solidFill>
                  <a:srgbClr val="ff8600"/>
                </a:solidFill>
                <a:latin typeface="Calibri"/>
              </a:rPr>
              <a:t>раскрытию неопределен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ыми  преобразованиями «убирают»  неопределенность, если это  возможно, и вычисляют преде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6659640" y="1700280"/>
          <a:ext cx="16286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700280"/>
                    <a:ext cx="16286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328"/>
                </a:solidFill>
                <a:latin typeface="Calibri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1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2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6634080" y="1995480"/>
          <a:ext cx="266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1995480"/>
                    <a:ext cx="266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6"/>
          <p:cNvSpPr/>
          <p:nvPr/>
        </p:nvSpPr>
        <p:spPr>
          <a:xfrm>
            <a:off x="619920" y="2536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7"/>
          <p:cNvGraphicFramePr/>
          <p:nvPr/>
        </p:nvGraphicFramePr>
        <p:xfrm>
          <a:off x="3030480" y="2276640"/>
          <a:ext cx="495468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0480" y="2276640"/>
                    <a:ext cx="49546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9"/>
          <p:cNvGraphicFramePr/>
          <p:nvPr/>
        </p:nvGraphicFramePr>
        <p:xfrm>
          <a:off x="6669000" y="3468600"/>
          <a:ext cx="157500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9000" y="3468600"/>
                    <a:ext cx="1575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692280" y="4770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3016080" y="4467240"/>
          <a:ext cx="44071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6080" y="4467240"/>
                    <a:ext cx="4407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"/>
          <p:cNvGraphicFramePr/>
          <p:nvPr/>
        </p:nvGraphicFramePr>
        <p:xfrm>
          <a:off x="6318360" y="1197000"/>
          <a:ext cx="157320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Объект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360" y="1197000"/>
                    <a:ext cx="15732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252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5"/>
          <p:cNvGraphicFramePr/>
          <p:nvPr/>
        </p:nvGraphicFramePr>
        <p:xfrm>
          <a:off x="6342120" y="1009800"/>
          <a:ext cx="15001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009800"/>
                    <a:ext cx="1500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8"/>
          <p:cNvSpPr/>
          <p:nvPr/>
        </p:nvSpPr>
        <p:spPr>
          <a:xfrm>
            <a:off x="529200" y="1771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890640" y="2316240"/>
          <a:ext cx="158256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2316240"/>
                    <a:ext cx="1582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0"/>
          <p:cNvGraphicFramePr/>
          <p:nvPr/>
        </p:nvGraphicFramePr>
        <p:xfrm>
          <a:off x="2590920" y="1963800"/>
          <a:ext cx="302400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963800"/>
                    <a:ext cx="30240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5724360" y="2228760"/>
          <a:ext cx="43848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28760"/>
                    <a:ext cx="438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-9036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9036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-46836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455472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16"/>
          <p:cNvGraphicFramePr/>
          <p:nvPr/>
        </p:nvGraphicFramePr>
        <p:xfrm>
          <a:off x="3162240" y="3887640"/>
          <a:ext cx="224640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2240" y="3887640"/>
                    <a:ext cx="2246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8"/>
          <p:cNvSpPr/>
          <p:nvPr/>
        </p:nvSpPr>
        <p:spPr>
          <a:xfrm>
            <a:off x="548280" y="5299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3063960" y="4863960"/>
          <a:ext cx="50324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63960" y="4863960"/>
                    <a:ext cx="5032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920" y="3204720"/>
            <a:ext cx="86421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5.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720000" y="2277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т в е т:   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908000" y="549360"/>
          <a:ext cx="37166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49360"/>
                    <a:ext cx="37166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8"/>
          <p:cNvGraphicFramePr/>
          <p:nvPr/>
        </p:nvGraphicFramePr>
        <p:xfrm>
          <a:off x="6143760" y="2997360"/>
          <a:ext cx="20415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997360"/>
                    <a:ext cx="204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0"/>
          <p:cNvSpPr/>
          <p:nvPr/>
        </p:nvSpPr>
        <p:spPr>
          <a:xfrm>
            <a:off x="403920" y="4554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2627280" y="4292640"/>
                <a:ext cx="612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13"/>
          <p:cNvGraphicFramePr/>
          <p:nvPr/>
        </p:nvGraphicFramePr>
        <p:xfrm>
          <a:off x="684360" y="5445000"/>
          <a:ext cx="43192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445000"/>
                    <a:ext cx="4319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6840" y="476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7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. </a:t>
            </a:r>
            <a:r>
              <a:rPr b="1" lang="en-US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</a:t>
            </a:r>
            <a:r>
              <a:rPr b="0" lang="ru-RU" sz="2400" spc="-1" strike="noStrike">
                <a:solidFill>
                  <a:srgbClr val="070618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7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6012000" y="404640"/>
                <a:ext cx="14396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"/>
              <p:cNvSpPr txBox="1"/>
              <p:nvPr/>
            </p:nvSpPr>
            <p:spPr>
              <a:xfrm>
                <a:off x="723960" y="1881360"/>
                <a:ext cx="7122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e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1"/>
              <p:cNvSpPr txBox="1"/>
              <p:nvPr/>
            </p:nvSpPr>
            <p:spPr>
              <a:xfrm>
                <a:off x="1619280" y="3800520"/>
                <a:ext cx="4889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2"/>
              <p:cNvSpPr txBox="1"/>
              <p:nvPr/>
            </p:nvSpPr>
            <p:spPr>
              <a:xfrm>
                <a:off x="2556000" y="5013360"/>
                <a:ext cx="763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40428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8</a:t>
            </a: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5867280" y="260280"/>
                <a:ext cx="19479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2"/>
              <p:cNvSpPr txBox="1"/>
              <p:nvPr/>
            </p:nvSpPr>
            <p:spPr>
              <a:xfrm>
                <a:off x="1692360" y="5230800"/>
                <a:ext cx="792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2556000" y="134136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2944800" y="2997360"/>
                <a:ext cx="5732640" cy="21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1.</a:t>
            </a: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в точке       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, принадлежащей области определения            , если функция               имеет в точке          конечный предел, равный числу              , 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2.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справа  (слева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)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 в точке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       из          , если в точке          существует конечный  правый  (левый)  предел  функции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равный числу            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то е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Объект 1"/>
          <p:cNvGraphicFramePr/>
          <p:nvPr/>
        </p:nvGraphicFramePr>
        <p:xfrm>
          <a:off x="6084720" y="981000"/>
          <a:ext cx="120996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981000"/>
                    <a:ext cx="1209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Объект 2"/>
          <p:cNvGraphicFramePr/>
          <p:nvPr/>
        </p:nvGraphicFramePr>
        <p:xfrm>
          <a:off x="6156360" y="148428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4842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3"/>
          <p:cNvGraphicFramePr/>
          <p:nvPr/>
        </p:nvGraphicFramePr>
        <p:xfrm>
          <a:off x="6872400" y="1933560"/>
          <a:ext cx="7952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2400" y="193356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Объект 4"/>
          <p:cNvGraphicFramePr/>
          <p:nvPr/>
        </p:nvGraphicFramePr>
        <p:xfrm>
          <a:off x="3203640" y="2276640"/>
          <a:ext cx="11383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276640"/>
                    <a:ext cx="1138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Объект 5"/>
          <p:cNvGraphicFramePr/>
          <p:nvPr/>
        </p:nvGraphicFramePr>
        <p:xfrm>
          <a:off x="6588000" y="2349360"/>
          <a:ext cx="36036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2349360"/>
                    <a:ext cx="36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Объект 6"/>
          <p:cNvGraphicFramePr/>
          <p:nvPr/>
        </p:nvGraphicFramePr>
        <p:xfrm>
          <a:off x="6012000" y="2684520"/>
          <a:ext cx="720720" cy="47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268452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7"/>
          <p:cNvGraphicFramePr/>
          <p:nvPr/>
        </p:nvGraphicFramePr>
        <p:xfrm>
          <a:off x="2700360" y="3213000"/>
          <a:ext cx="2879640" cy="6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3213000"/>
                    <a:ext cx="287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8"/>
          <p:cNvGraphicFramePr/>
          <p:nvPr/>
        </p:nvGraphicFramePr>
        <p:xfrm>
          <a:off x="6156360" y="3716280"/>
          <a:ext cx="120960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371628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Объект 9"/>
          <p:cNvGraphicFramePr/>
          <p:nvPr/>
        </p:nvGraphicFramePr>
        <p:xfrm>
          <a:off x="6156360" y="4581360"/>
          <a:ext cx="3747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581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Объект 10"/>
          <p:cNvGraphicFramePr/>
          <p:nvPr/>
        </p:nvGraphicFramePr>
        <p:xfrm>
          <a:off x="2340000" y="4653000"/>
          <a:ext cx="3128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4653000"/>
                    <a:ext cx="312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Объект 11"/>
          <p:cNvGraphicFramePr/>
          <p:nvPr/>
        </p:nvGraphicFramePr>
        <p:xfrm>
          <a:off x="3203640" y="4653000"/>
          <a:ext cx="79524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Объект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3640" y="465300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Объект 12"/>
          <p:cNvGraphicFramePr/>
          <p:nvPr/>
        </p:nvGraphicFramePr>
        <p:xfrm>
          <a:off x="4932360" y="5373720"/>
          <a:ext cx="79200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Объект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32360" y="5373720"/>
                    <a:ext cx="792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13"/>
          <p:cNvGraphicFramePr/>
          <p:nvPr/>
        </p:nvGraphicFramePr>
        <p:xfrm>
          <a:off x="1116000" y="6021360"/>
          <a:ext cx="727236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Объект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16000" y="6021360"/>
                    <a:ext cx="7272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предела вытекает следующе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f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f6400"/>
                </a:solidFill>
                <a:uFillTx/>
                <a:latin typeface="Calibri"/>
              </a:rPr>
              <a:t>Т е о р е м а  1</a:t>
            </a:r>
            <a:r>
              <a:rPr b="1" lang="ru-RU" sz="2800" spc="-1" strike="noStrike">
                <a:solidFill>
                  <a:srgbClr val="bf6400"/>
                </a:solidFill>
                <a:latin typeface="Calibri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               непрерывна в точке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 только тогда, когда в этой точке справедливы равен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8" name="Объект 4"/>
          <p:cNvGraphicFramePr/>
          <p:nvPr/>
        </p:nvGraphicFramePr>
        <p:xfrm>
          <a:off x="4716360" y="1557360"/>
          <a:ext cx="120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Объект 5"/>
          <p:cNvGraphicFramePr/>
          <p:nvPr/>
        </p:nvGraphicFramePr>
        <p:xfrm>
          <a:off x="965160" y="3192480"/>
          <a:ext cx="71420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3192480"/>
                    <a:ext cx="71420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09640" y="1858680"/>
            <a:ext cx="863136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53515e"/>
                </a:solidFill>
                <a:uFillTx/>
                <a:latin typeface="Calibri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функцию             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012000" y="1844640"/>
          <a:ext cx="16556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44640"/>
                    <a:ext cx="1655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Line 6"/>
          <p:cNvSpPr/>
          <p:nvPr/>
        </p:nvSpPr>
        <p:spPr>
          <a:xfrm flipV="1">
            <a:off x="2556000" y="2707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971640" y="5445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4140360" y="2708280"/>
            <a:ext cx="0" cy="324180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 flipH="1">
            <a:off x="2555640" y="4076640"/>
            <a:ext cx="1584360" cy="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4216320" y="55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2129040" y="393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/>
          <p:cNvSpPr/>
          <p:nvPr/>
        </p:nvSpPr>
        <p:spPr>
          <a:xfrm>
            <a:off x="826920" y="2781360"/>
            <a:ext cx="3168720" cy="2376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1996" h="1543">
                <a:moveTo>
                  <a:pt x="1996" y="0"/>
                </a:moveTo>
                <a:cubicBezTo>
                  <a:pt x="1992" y="174"/>
                  <a:pt x="1988" y="348"/>
                  <a:pt x="1860" y="545"/>
                </a:cubicBezTo>
                <a:cubicBezTo>
                  <a:pt x="1732" y="742"/>
                  <a:pt x="1535" y="1014"/>
                  <a:pt x="1225" y="1180"/>
                </a:cubicBezTo>
                <a:cubicBezTo>
                  <a:pt x="915" y="1346"/>
                  <a:pt x="457" y="1444"/>
                  <a:pt x="0" y="1543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4140360" y="2852640"/>
            <a:ext cx="2160360" cy="3240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1361" h="2041">
                <a:moveTo>
                  <a:pt x="0" y="771"/>
                </a:moveTo>
                <a:cubicBezTo>
                  <a:pt x="23" y="605"/>
                  <a:pt x="46" y="439"/>
                  <a:pt x="91" y="318"/>
                </a:cubicBezTo>
                <a:cubicBezTo>
                  <a:pt x="136" y="197"/>
                  <a:pt x="204" y="90"/>
                  <a:pt x="272" y="45"/>
                </a:cubicBezTo>
                <a:cubicBezTo>
                  <a:pt x="340" y="0"/>
                  <a:pt x="438" y="22"/>
                  <a:pt x="499" y="45"/>
                </a:cubicBezTo>
                <a:cubicBezTo>
                  <a:pt x="560" y="68"/>
                  <a:pt x="605" y="122"/>
                  <a:pt x="635" y="182"/>
                </a:cubicBezTo>
                <a:cubicBezTo>
                  <a:pt x="665" y="242"/>
                  <a:pt x="650" y="159"/>
                  <a:pt x="680" y="408"/>
                </a:cubicBezTo>
                <a:cubicBezTo>
                  <a:pt x="710" y="657"/>
                  <a:pt x="703" y="1406"/>
                  <a:pt x="816" y="1678"/>
                </a:cubicBezTo>
                <a:cubicBezTo>
                  <a:pt x="929" y="1950"/>
                  <a:pt x="1270" y="1988"/>
                  <a:pt x="1361" y="204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4067280" y="400536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6187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19240" y="476280"/>
            <a:ext cx="8704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  3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называется  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 в  интервале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она непрерывна в любой его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на отрез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, если она непрерывна в интервале             , непрерывна справа в точке                непрерывна слева в точке       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6300720" y="333360"/>
          <a:ext cx="172728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333360"/>
                    <a:ext cx="172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"/>
          <p:cNvGraphicFramePr/>
          <p:nvPr/>
        </p:nvGraphicFramePr>
        <p:xfrm>
          <a:off x="7308720" y="1268280"/>
          <a:ext cx="792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268280"/>
                    <a:ext cx="792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"/>
          <p:cNvGraphicFramePr/>
          <p:nvPr/>
        </p:nvGraphicFramePr>
        <p:xfrm>
          <a:off x="3348000" y="2565360"/>
          <a:ext cx="151452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565360"/>
                    <a:ext cx="1514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"/>
          <p:cNvGraphicFramePr/>
          <p:nvPr/>
        </p:nvGraphicFramePr>
        <p:xfrm>
          <a:off x="2916360" y="3357720"/>
          <a:ext cx="64764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3357720"/>
                    <a:ext cx="64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6"/>
          <p:cNvGraphicFramePr/>
          <p:nvPr/>
        </p:nvGraphicFramePr>
        <p:xfrm>
          <a:off x="2771640" y="3933720"/>
          <a:ext cx="8654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3933720"/>
                    <a:ext cx="865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7"/>
          <p:cNvGraphicFramePr/>
          <p:nvPr/>
        </p:nvGraphicFramePr>
        <p:xfrm>
          <a:off x="5364000" y="4508640"/>
          <a:ext cx="100836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4508640"/>
                    <a:ext cx="1008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8"/>
          <p:cNvGraphicFramePr/>
          <p:nvPr/>
        </p:nvGraphicFramePr>
        <p:xfrm>
          <a:off x="6659640" y="4581360"/>
          <a:ext cx="93492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4581360"/>
                    <a:ext cx="93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С понятием предела последов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тесно связано понятие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в бесконечност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468360" y="2852640"/>
                <a:ext cx="17319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Объект 5"/>
              <p:cNvSpPr txBox="1"/>
              <p:nvPr/>
            </p:nvSpPr>
            <p:spPr>
              <a:xfrm>
                <a:off x="395280" y="3573360"/>
                <a:ext cx="1776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Точки разрыва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8920" y="1628280"/>
            <a:ext cx="877572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Calibri"/>
              </a:rPr>
              <a:t>О п р е д е л е н и е .</a:t>
            </a:r>
            <a:r>
              <a:rPr b="1" lang="ru-RU" sz="2800" spc="-1" strike="noStrike">
                <a:solidFill>
                  <a:srgbClr val="ff86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            , являющаяся предельной точкой множества        ,  называется точкой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разрыва  фун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, если в точке      эта функция либо не определена, либо определена, но нарушено условие непреры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Object 4"/>
          <p:cNvGraphicFramePr/>
          <p:nvPr/>
        </p:nvGraphicFramePr>
        <p:xfrm>
          <a:off x="4788000" y="2276640"/>
          <a:ext cx="10080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276640"/>
                    <a:ext cx="1008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5"/>
          <p:cNvGraphicFramePr/>
          <p:nvPr/>
        </p:nvGraphicFramePr>
        <p:xfrm>
          <a:off x="5292720" y="2852640"/>
          <a:ext cx="8636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852640"/>
                    <a:ext cx="863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"/>
          <p:cNvGraphicFramePr/>
          <p:nvPr/>
        </p:nvGraphicFramePr>
        <p:xfrm>
          <a:off x="4500720" y="3357720"/>
          <a:ext cx="15840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357720"/>
                    <a:ext cx="1584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8172360" y="3573360"/>
          <a:ext cx="3747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2360" y="3573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разрыва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устранимого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и               , если в этой точке предел функции          существует,  но         в точке     либо не определена, либо значение          не совпадает с найденным пределом,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202328"/>
                </a:solidFill>
                <a:uFillTx/>
                <a:latin typeface="Times New Roman"/>
              </a:rPr>
              <a:t>Пример</a:t>
            </a:r>
            <a:r>
              <a:rPr b="1" lang="en-US" sz="2800" spc="-1" strike="noStrike" u="sng">
                <a:solidFill>
                  <a:srgbClr val="202328"/>
                </a:solidFill>
                <a:uFillTx/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20232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5651640" y="1197000"/>
          <a:ext cx="86508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197000"/>
                    <a:ext cx="865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6588000" y="1554120"/>
          <a:ext cx="12970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554120"/>
                    <a:ext cx="1297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4859280" y="1916280"/>
          <a:ext cx="72072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1628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"/>
          <p:cNvGraphicFramePr/>
          <p:nvPr/>
        </p:nvGraphicFramePr>
        <p:xfrm>
          <a:off x="8028000" y="1947960"/>
          <a:ext cx="71928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28000" y="1947960"/>
                    <a:ext cx="7192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6"/>
          <p:cNvGraphicFramePr/>
          <p:nvPr/>
        </p:nvGraphicFramePr>
        <p:xfrm>
          <a:off x="1474920" y="2421000"/>
          <a:ext cx="31104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2421000"/>
                    <a:ext cx="311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7236000" y="2379600"/>
          <a:ext cx="718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2379600"/>
                    <a:ext cx="718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8"/>
          <p:cNvGraphicFramePr/>
          <p:nvPr/>
        </p:nvGraphicFramePr>
        <p:xfrm>
          <a:off x="3749760" y="3384720"/>
          <a:ext cx="409392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49760" y="3384720"/>
                    <a:ext cx="40939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9"/>
          <p:cNvGraphicFramePr/>
          <p:nvPr/>
        </p:nvGraphicFramePr>
        <p:xfrm>
          <a:off x="3708360" y="4149720"/>
          <a:ext cx="1873440" cy="174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4149720"/>
                    <a:ext cx="18734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0"/>
          <p:cNvSpPr/>
          <p:nvPr/>
        </p:nvSpPr>
        <p:spPr>
          <a:xfrm>
            <a:off x="5971320" y="465228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5971320" y="52999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 flipH="1">
            <a:off x="6732720" y="5229360"/>
            <a:ext cx="7128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179280" y="594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в точке х=0 устранимый разрыв, т.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10"/>
          <p:cNvGraphicFramePr/>
          <p:nvPr/>
        </p:nvGraphicFramePr>
        <p:xfrm>
          <a:off x="4932360" y="5877000"/>
          <a:ext cx="2909880" cy="51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5877000"/>
                    <a:ext cx="29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1"/>
          <p:cNvGraphicFramePr/>
          <p:nvPr/>
        </p:nvGraphicFramePr>
        <p:xfrm>
          <a:off x="7885080" y="5877000"/>
          <a:ext cx="10796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85080" y="5877000"/>
                    <a:ext cx="107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250920" y="549000"/>
            <a:ext cx="8704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 разрыв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разрыва первого 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если в этой точке функция имеет конечные, но не равные друг другу правый и левый пределы, то е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70618"/>
                </a:solidFill>
                <a:uFillTx/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38d9b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а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в точк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х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первого рода, т.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"/>
              <p:cNvSpPr txBox="1"/>
              <p:nvPr/>
            </p:nvSpPr>
            <p:spPr>
              <a:xfrm>
                <a:off x="5580000" y="62064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724360" y="981000"/>
                <a:ext cx="10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5219640" y="170028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≠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1847880" y="2252520"/>
                <a:ext cx="445284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1692360" y="5373720"/>
                <a:ext cx="547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"/>
          <p:cNvSpPr/>
          <p:nvPr/>
        </p:nvSpPr>
        <p:spPr>
          <a:xfrm flipV="1">
            <a:off x="3995640" y="3789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1547640" y="508464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24360" y="458136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>
            <a:off x="1547640" y="5661000"/>
            <a:ext cx="2448000" cy="0"/>
          </a:xfrm>
          <a:prstGeom prst="line">
            <a:avLst/>
          </a:prstGeom>
          <a:ln w="25560">
            <a:solidFill>
              <a:srgbClr val="ff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640680" y="3715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521400" y="507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3635280" y="435708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932280" y="5509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4"/>
          <p:cNvSpPr/>
          <p:nvPr/>
        </p:nvSpPr>
        <p:spPr>
          <a:xfrm>
            <a:off x="3924360" y="5013360"/>
            <a:ext cx="142920" cy="144360"/>
          </a:xfrm>
          <a:prstGeom prst="ellipse">
            <a:avLst/>
          </a:prstGeom>
          <a:solidFill>
            <a:srgbClr val="7b8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3640320" y="5006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"/>
          <p:cNvGraphicFramePr/>
          <p:nvPr/>
        </p:nvGraphicFramePr>
        <p:xfrm>
          <a:off x="6377040" y="3852720"/>
          <a:ext cx="58104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7040" y="3852720"/>
                    <a:ext cx="5810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5651640" y="1268280"/>
                <a:ext cx="1008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7596360" y="1700280"/>
                <a:ext cx="1352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067280" y="2492280"/>
                <a:ext cx="720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3" name="Rectangle 21"/>
          <p:cNvSpPr/>
          <p:nvPr/>
        </p:nvSpPr>
        <p:spPr>
          <a:xfrm>
            <a:off x="439560" y="1198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  <a:ea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разры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-54360" y="177444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очкой разрыва второго 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0920" y="24555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в этой точке 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,  по крайней мере,  одного из односторонних пределов или хотя бы один из односторонних пределов равен бескон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8560" y="1341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3515e"/>
                </a:solidFill>
                <a:uFillTx/>
                <a:latin typeface="Times New Roman"/>
              </a:rPr>
              <a:t>Пример.</a:t>
            </a:r>
            <a:r>
              <a:rPr b="0" lang="ru-RU" sz="2000" spc="-1" strike="noStrike">
                <a:solidFill>
                  <a:srgbClr val="53515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              имеет в точке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ыв второго рода, так как в данном случае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предел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2405160" y="2957400"/>
                <a:ext cx="3828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443400" y="1352520"/>
                <a:ext cx="841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Line 8"/>
          <p:cNvSpPr/>
          <p:nvPr/>
        </p:nvSpPr>
        <p:spPr>
          <a:xfrm flipV="1">
            <a:off x="435600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2627280" y="472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4427640" y="3500280"/>
            <a:ext cx="1366560" cy="115416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1"/>
          <p:cNvSpPr/>
          <p:nvPr/>
        </p:nvSpPr>
        <p:spPr>
          <a:xfrm flipH="1" flipV="1">
            <a:off x="2915640" y="4796640"/>
            <a:ext cx="1368360" cy="1368360"/>
          </a:xfrm>
          <a:custGeom>
            <a:avLst/>
            <a:gdLst>
              <a:gd name="textAreaLeft" fmla="*/ 0 w 1368360"/>
              <a:gd name="textAreaRight" fmla="*/ 1368360 w 1368360"/>
              <a:gd name="textAreaTop" fmla="*/ -360 h 1368360"/>
              <a:gd name="textAreaBottom" fmla="*/ 1368360 h 13683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4072680" y="328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800680" y="4723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4071960" y="465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50920" y="907920"/>
            <a:ext cx="8704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1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функция                  непрерывна в точке     и существует конечный предел                   , то  справедливо равен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, разность, произведение, частное, суперпозиция конечного числа непрерывных функций (то есть любая элементарная функция) есть функция,  непрерывная во всех точках области опре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4788000" y="1035000"/>
                <a:ext cx="115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8677440" y="1052640"/>
                <a:ext cx="311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4859280" y="1585800"/>
                <a:ext cx="115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1" name="Object 5"/>
          <p:cNvGraphicFramePr/>
          <p:nvPr/>
        </p:nvGraphicFramePr>
        <p:xfrm>
          <a:off x="2120760" y="2192400"/>
          <a:ext cx="45435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192400"/>
                    <a:ext cx="4543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Этот предел функции обознач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или                    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С помощью логических символов определение запишется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Объект 3"/>
              <p:cNvSpPr txBox="1"/>
              <p:nvPr/>
            </p:nvSpPr>
            <p:spPr>
              <a:xfrm>
                <a:off x="1389240" y="1438200"/>
                <a:ext cx="34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" name="Объект 1"/>
          <p:cNvGraphicFramePr/>
          <p:nvPr/>
        </p:nvGraphicFramePr>
        <p:xfrm>
          <a:off x="468360" y="1268280"/>
          <a:ext cx="2085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2085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419640" y="1341360"/>
          <a:ext cx="1728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341360"/>
                    <a:ext cx="1728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Объект 4"/>
          <p:cNvGraphicFramePr/>
          <p:nvPr/>
        </p:nvGraphicFramePr>
        <p:xfrm>
          <a:off x="6084720" y="1413000"/>
          <a:ext cx="14227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413000"/>
                    <a:ext cx="14227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5"/>
          <p:cNvGraphicFramePr/>
          <p:nvPr/>
        </p:nvGraphicFramePr>
        <p:xfrm>
          <a:off x="592200" y="2997360"/>
          <a:ext cx="7610400" cy="16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Объект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200" y="2997360"/>
                    <a:ext cx="76104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755640" y="4746600"/>
                <a:ext cx="2595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бесконеч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Объект 25"/>
          <p:cNvGraphicFramePr/>
          <p:nvPr/>
        </p:nvGraphicFramePr>
        <p:xfrm>
          <a:off x="4508640" y="3792600"/>
          <a:ext cx="126720" cy="1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79260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" name="Прямая со стрелкой 4"/>
          <p:cNvCxnSpPr/>
          <p:nvPr/>
        </p:nvCxnSpPr>
        <p:spPr>
          <a:xfrm flipH="1" flipV="1">
            <a:off x="1402560" y="2214360"/>
            <a:ext cx="73800" cy="3528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64" name="Прямая соединительная линия 12"/>
          <p:cNvSpPr/>
          <p:nvPr/>
        </p:nvSpPr>
        <p:spPr>
          <a:xfrm>
            <a:off x="1511280" y="3573360"/>
            <a:ext cx="50054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1476360" y="292428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Полилиния 24"/>
          <p:cNvSpPr/>
          <p:nvPr/>
        </p:nvSpPr>
        <p:spPr>
          <a:xfrm>
            <a:off x="2041560" y="2411280"/>
            <a:ext cx="4475160" cy="1855800"/>
          </a:xfrm>
          <a:custGeom>
            <a:avLst/>
            <a:gdLst/>
            <a:ahLst/>
            <a:rect l="l" t="t" r="r" b="b"/>
            <a:pathLst>
              <a:path w="4473987" h="1855816">
                <a:moveTo>
                  <a:pt x="0" y="1131390"/>
                </a:moveTo>
                <a:cubicBezTo>
                  <a:pt x="559858" y="515440"/>
                  <a:pt x="1119717" y="-100510"/>
                  <a:pt x="1511300" y="13790"/>
                </a:cubicBezTo>
                <a:cubicBezTo>
                  <a:pt x="1902883" y="128090"/>
                  <a:pt x="1993900" y="1611873"/>
                  <a:pt x="2349500" y="1817190"/>
                </a:cubicBezTo>
                <a:cubicBezTo>
                  <a:pt x="2705100" y="2022507"/>
                  <a:pt x="3327400" y="1347290"/>
                  <a:pt x="3644900" y="1245690"/>
                </a:cubicBezTo>
                <a:cubicBezTo>
                  <a:pt x="3962400" y="1144090"/>
                  <a:pt x="4140200" y="1216057"/>
                  <a:pt x="4254500" y="1207590"/>
                </a:cubicBezTo>
                <a:cubicBezTo>
                  <a:pt x="4368800" y="1199123"/>
                  <a:pt x="4341283" y="1197007"/>
                  <a:pt x="4330700" y="1194890"/>
                </a:cubicBezTo>
                <a:cubicBezTo>
                  <a:pt x="4320117" y="1192773"/>
                  <a:pt x="4171950" y="1197007"/>
                  <a:pt x="4191000" y="1194890"/>
                </a:cubicBezTo>
                <a:cubicBezTo>
                  <a:pt x="4210050" y="1192773"/>
                  <a:pt x="4400550" y="1182190"/>
                  <a:pt x="4445000" y="1182190"/>
                </a:cubicBezTo>
                <a:cubicBezTo>
                  <a:pt x="4489450" y="1182190"/>
                  <a:pt x="4473575" y="1188540"/>
                  <a:pt x="4457700" y="1194890"/>
                </a:cubicBezTo>
              </a:path>
            </a:pathLst>
          </a:custGeom>
          <a:noFill/>
          <a:ln w="255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26"/>
          <p:cNvGraphicFramePr/>
          <p:nvPr/>
        </p:nvGraphicFramePr>
        <p:xfrm>
          <a:off x="1028880" y="1908000"/>
          <a:ext cx="426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Объект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1908000"/>
                    <a:ext cx="426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Объект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Объект 28"/>
              <p:cNvSpPr txBox="1"/>
              <p:nvPr/>
            </p:nvSpPr>
            <p:spPr>
              <a:xfrm>
                <a:off x="504720" y="393372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Объект 29"/>
              <p:cNvSpPr txBox="1"/>
              <p:nvPr/>
            </p:nvSpPr>
            <p:spPr>
              <a:xfrm>
                <a:off x="971640" y="3284640"/>
                <a:ext cx="43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Объект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Объект 23551"/>
              <p:cNvSpPr txBox="1"/>
              <p:nvPr/>
            </p:nvSpPr>
            <p:spPr>
              <a:xfrm>
                <a:off x="3635280" y="1905120"/>
                <a:ext cx="177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Объект 23552"/>
          <p:cNvGraphicFramePr/>
          <p:nvPr/>
        </p:nvGraphicFramePr>
        <p:xfrm>
          <a:off x="3618000" y="4699080"/>
          <a:ext cx="395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Объект 235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8000" y="4699080"/>
                    <a:ext cx="39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ая соединительная линия 23555"/>
          <p:cNvSpPr/>
          <p:nvPr/>
        </p:nvSpPr>
        <p:spPr>
          <a:xfrm>
            <a:off x="3887640" y="292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Объект 23556"/>
          <p:cNvGraphicFramePr/>
          <p:nvPr/>
        </p:nvGraphicFramePr>
        <p:xfrm>
          <a:off x="3162240" y="5446800"/>
          <a:ext cx="598032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Объект 235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2240" y="5446800"/>
                    <a:ext cx="5980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Объект 23557"/>
              <p:cNvSpPr txBox="1"/>
              <p:nvPr/>
            </p:nvSpPr>
            <p:spPr>
              <a:xfrm>
                <a:off x="3941640" y="6165720"/>
                <a:ext cx="1941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Объект 23558"/>
          <p:cNvGraphicFramePr/>
          <p:nvPr/>
        </p:nvGraphicFramePr>
        <p:xfrm>
          <a:off x="755640" y="5516640"/>
          <a:ext cx="2351160" cy="64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Объект 235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5516640"/>
                    <a:ext cx="23511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Объект 23559"/>
              <p:cNvSpPr txBox="1"/>
              <p:nvPr/>
            </p:nvSpPr>
            <p:spPr>
              <a:xfrm>
                <a:off x="987480" y="4586400"/>
                <a:ext cx="385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600"/>
                </a:solidFill>
                <a:latin typeface="Calibri"/>
              </a:rPr>
              <a:t>Замечание.</a:t>
            </a:r>
            <a:r>
              <a:rPr b="0" lang="ru-RU" sz="32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Приведенное выше определение предела при                 предполагает неограниченное возрастание независимой переменной         по абсолютной величине. Можно сформулировать понятие предела при                   и                    В первом случае основное   неравен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выполняется для всех           а во вт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случае для всех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3"/>
          <p:cNvGraphicFramePr/>
          <p:nvPr/>
        </p:nvGraphicFramePr>
        <p:xfrm>
          <a:off x="2916360" y="1546200"/>
          <a:ext cx="1150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46200"/>
                    <a:ext cx="1150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Объект 4"/>
          <p:cNvGraphicFramePr/>
          <p:nvPr/>
        </p:nvGraphicFramePr>
        <p:xfrm>
          <a:off x="2987640" y="2781360"/>
          <a:ext cx="387360" cy="4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781360"/>
                    <a:ext cx="387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258920" y="4076640"/>
                <a:ext cx="1225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3" name="Объект 6"/>
          <p:cNvGraphicFramePr/>
          <p:nvPr/>
        </p:nvGraphicFramePr>
        <p:xfrm>
          <a:off x="7020000" y="5516640"/>
          <a:ext cx="14047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5516640"/>
                    <a:ext cx="140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92360" y="4653000"/>
                <a:ext cx="1941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8"/>
              <p:cNvSpPr txBox="1"/>
              <p:nvPr/>
            </p:nvSpPr>
            <p:spPr>
              <a:xfrm>
                <a:off x="4211640" y="5445000"/>
                <a:ext cx="79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Объект 9"/>
              <p:cNvSpPr txBox="1"/>
              <p:nvPr/>
            </p:nvSpPr>
            <p:spPr>
              <a:xfrm>
                <a:off x="3419640" y="6093000"/>
                <a:ext cx="1038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ЕДЕЛ  ФУНКЦИИ  В  ТОЧК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2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о Кош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или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),  если  для любого сколь угодно малого положите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              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   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   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бозначения предела 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869080" y="2303640"/>
          <a:ext cx="717480" cy="1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2303640"/>
                    <a:ext cx="71748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70200" y="2133720"/>
                <a:ext cx="1109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7567560" y="2565360"/>
          <a:ext cx="31104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2565360"/>
                    <a:ext cx="3110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7199280" y="2908440"/>
          <a:ext cx="11700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9280" y="2908440"/>
                    <a:ext cx="11700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50920" y="3716280"/>
          <a:ext cx="12967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716280"/>
                    <a:ext cx="1296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6012000" y="3645000"/>
                <a:ext cx="19191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0"/>
          <p:cNvGraphicFramePr/>
          <p:nvPr/>
        </p:nvGraphicFramePr>
        <p:xfrm>
          <a:off x="3059280" y="4508640"/>
          <a:ext cx="1871640" cy="54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4508640"/>
                    <a:ext cx="1871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5"/>
              <p:cNvSpPr txBox="1"/>
              <p:nvPr/>
            </p:nvSpPr>
            <p:spPr>
              <a:xfrm>
                <a:off x="3924360" y="557676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4"/>
              <p:cNvSpPr txBox="1"/>
              <p:nvPr/>
            </p:nvSpPr>
            <p:spPr>
              <a:xfrm>
                <a:off x="6156360" y="5602320"/>
                <a:ext cx="1079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2962440" y="5563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313960" y="5563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165080" y="5515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11"/>
          <a:stretch/>
        </p:blipFill>
        <p:spPr>
          <a:xfrm>
            <a:off x="826920" y="5402160"/>
            <a:ext cx="1694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03b"/>
                </a:solidFill>
                <a:latin typeface="Calibri"/>
              </a:rPr>
              <a:t>Огюстен Луи Кош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05264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03b"/>
                </a:solidFill>
                <a:latin typeface="Calibri"/>
              </a:rPr>
              <a:t>Augustin Louis Cauch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одился 21 августа 1789г. в  Париже. Умер 23 мая 185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Великий французский математик, член Парижской академии наук, Лондонского королевского общества, Петербургской академии наук и других академ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азработал фундамент математического анализа, внес огромный вклад в алгебру, в математическую физику, теорию дифференциальных уравнений и многие другие области математики. Его имя внесено в список величайших ученых Франции, помещенный на первом этаже Эйфелевой баш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62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т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5"/>
              <p:cNvSpPr txBox="1"/>
              <p:nvPr/>
            </p:nvSpPr>
            <p:spPr>
              <a:xfrm>
                <a:off x="4508640" y="379260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Прямая со стрелкой 4"/>
          <p:cNvCxnSpPr/>
          <p:nvPr/>
        </p:nvCxnSpPr>
        <p:spPr>
          <a:xfrm flipH="1" flipV="1">
            <a:off x="1402560" y="1915920"/>
            <a:ext cx="73800" cy="352944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12"/>
          <p:cNvSpPr/>
          <p:nvPr/>
        </p:nvSpPr>
        <p:spPr>
          <a:xfrm>
            <a:off x="1476360" y="3645000"/>
            <a:ext cx="50036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4"/>
          <p:cNvSpPr/>
          <p:nvPr/>
        </p:nvSpPr>
        <p:spPr>
          <a:xfrm>
            <a:off x="1476360" y="299736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graphicFrame>
        <p:nvGraphicFramePr>
          <p:cNvPr id="137" name="Объект 26"/>
          <p:cNvGraphicFramePr/>
          <p:nvPr/>
        </p:nvGraphicFramePr>
        <p:xfrm>
          <a:off x="976320" y="1709640"/>
          <a:ext cx="42696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Объект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09640"/>
                    <a:ext cx="426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28"/>
          <p:cNvGraphicFramePr/>
          <p:nvPr/>
        </p:nvGraphicFramePr>
        <p:xfrm>
          <a:off x="495360" y="397044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Объект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360" y="397044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29"/>
          <p:cNvGraphicFramePr/>
          <p:nvPr/>
        </p:nvGraphicFramePr>
        <p:xfrm>
          <a:off x="971640" y="3284640"/>
          <a:ext cx="431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Объект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284640"/>
                    <a:ext cx="431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Объект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Объект 23551"/>
          <p:cNvGraphicFramePr/>
          <p:nvPr/>
        </p:nvGraphicFramePr>
        <p:xfrm>
          <a:off x="5094360" y="2049480"/>
          <a:ext cx="17748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Объект 235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2049480"/>
                    <a:ext cx="17748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Объект 23552"/>
          <p:cNvGraphicFramePr/>
          <p:nvPr/>
        </p:nvGraphicFramePr>
        <p:xfrm>
          <a:off x="4464000" y="4730760"/>
          <a:ext cx="36036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Объект 235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4000" y="47307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ая соединительная линия 23555"/>
          <p:cNvSpPr/>
          <p:nvPr/>
        </p:nvSpPr>
        <p:spPr>
          <a:xfrm>
            <a:off x="457200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3556"/>
          <p:cNvGraphicFramePr/>
          <p:nvPr/>
        </p:nvGraphicFramePr>
        <p:xfrm>
          <a:off x="2820960" y="5433840"/>
          <a:ext cx="5702400" cy="102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Объект 235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20960" y="5433840"/>
                    <a:ext cx="57024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Объект 23558"/>
              <p:cNvSpPr txBox="1"/>
              <p:nvPr/>
            </p:nvSpPr>
            <p:spPr>
              <a:xfrm>
                <a:off x="479520" y="5445000"/>
                <a:ext cx="1879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Upp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Объект 23559"/>
          <p:cNvGraphicFramePr/>
          <p:nvPr/>
        </p:nvGraphicFramePr>
        <p:xfrm>
          <a:off x="987480" y="4586400"/>
          <a:ext cx="38556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Объект 235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87480" y="4586400"/>
                    <a:ext cx="385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Прямая соединительная линия 33"/>
          <p:cNvSpPr/>
          <p:nvPr/>
        </p:nvSpPr>
        <p:spPr>
          <a:xfrm>
            <a:off x="5651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18"/>
          <p:cNvGraphicFramePr/>
          <p:nvPr/>
        </p:nvGraphicFramePr>
        <p:xfrm>
          <a:off x="5651640" y="4724280"/>
          <a:ext cx="1008000" cy="50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Объект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4724280"/>
                    <a:ext cx="1008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Объект 19" descr=""/>
          <p:cNvPicPr/>
          <p:nvPr/>
        </p:nvPicPr>
        <p:blipFill>
          <a:blip r:embed="rId21"/>
          <a:stretch/>
        </p:blipFill>
        <p:spPr>
          <a:xfrm>
            <a:off x="2340000" y="4726080"/>
            <a:ext cx="1009800" cy="503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37"/>
          <p:cNvSpPr/>
          <p:nvPr/>
        </p:nvSpPr>
        <p:spPr>
          <a:xfrm>
            <a:off x="3419640" y="30020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23573"/>
          <p:cNvSpPr/>
          <p:nvPr/>
        </p:nvSpPr>
        <p:spPr>
          <a:xfrm>
            <a:off x="2463840" y="2666880"/>
            <a:ext cx="3517920" cy="1895760"/>
          </a:xfrm>
          <a:custGeom>
            <a:avLst/>
            <a:gdLst/>
            <a:ahLst/>
            <a:rect l="l" t="t" r="r" b="b"/>
            <a:pathLst>
              <a:path w="3517900" h="1895298">
                <a:moveTo>
                  <a:pt x="0" y="1866900"/>
                </a:moveTo>
                <a:cubicBezTo>
                  <a:pt x="196850" y="1898650"/>
                  <a:pt x="393700" y="1930400"/>
                  <a:pt x="647700" y="1803400"/>
                </a:cubicBezTo>
                <a:cubicBezTo>
                  <a:pt x="901700" y="1676400"/>
                  <a:pt x="1204383" y="1261533"/>
                  <a:pt x="1524000" y="1104900"/>
                </a:cubicBezTo>
                <a:cubicBezTo>
                  <a:pt x="1843617" y="948267"/>
                  <a:pt x="2233083" y="1047750"/>
                  <a:pt x="2565400" y="863600"/>
                </a:cubicBezTo>
                <a:cubicBezTo>
                  <a:pt x="2897717" y="679450"/>
                  <a:pt x="3325283" y="169333"/>
                  <a:pt x="351790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13:42Z</dcterms:created>
  <dc:creator>к.502</dc:creator>
  <dc:description/>
  <dc:language>en-US</dc:language>
  <cp:lastModifiedBy>Пользователь</cp:lastModifiedBy>
  <dcterms:modified xsi:type="dcterms:W3CDTF">2018-07-01T12:19:52Z</dcterms:modified>
  <cp:revision>106</cp:revision>
  <dc:subject/>
  <dc:title>ФУНКЦИЯ.  ПРЕДЕЛ  ФУНКЦИИ</dc:title>
</cp:coreProperties>
</file>